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96F-570F-4060-A56E-20B930F1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CED-DFCC-4EFD-B4FF-5E507F7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09F-8D30-43E6-956B-BAFDE775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F4A-E5A8-43B3-82D9-DBCD6923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11E-01A7-436A-9479-82523576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FFF-70A4-4B0A-9A72-FB3341E3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FC73-57A1-4B4B-8A43-EBD6DBF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7E6F-D58C-4B00-A083-F106006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DE7-8ECB-4939-BC00-26ECD99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D2B7-3B7B-4F32-905F-DCE18B44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26D9-C317-4E63-B6AF-FFF64D2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4D1-DA16-423A-B0DC-E7533B8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ED32-9C1F-43F4-96A2-11F410C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046F-3B5F-46D4-98A7-892DE8D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349E-2A06-4339-82FE-A9CBC2F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261-261A-4D27-994A-F994BD26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759E-66B3-4B6B-BB98-E0AABBC6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829-7739-4CBB-899F-6C655F38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2AA-1C90-4563-B822-9B6DB600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298-62BC-40FF-BED6-64E0B7D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551-600C-4335-9994-31409FA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25C-6AA9-4E8F-9FE4-8D93F37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52E-79AB-4352-A904-41AE069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403-7C9D-48C2-A814-7857768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739-630C-45FB-89CD-0C63BD8FA2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B24-2A7C-4DAA-8C0F-B7FE3654970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orkdiaries.com/my-diarie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Edwardian Script ITC"/>
              </a:rPr>
              <a:t>Rachel Renee Russell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 rot="20573400">
            <a:off x="2590560" y="3733560"/>
            <a:ext cx="507204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BY:Kyra Antw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Bradley Hand ITC"/>
              </a:rPr>
              <a:t>About Rachel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Rachel is an attorney who prefers writing teen books over legal briefs. She has two daughters Nikkie &amp; Erin and a pet Yorkie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361800"/>
            <a:ext cx="76294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1f08"/>
                </a:solidFill>
                <a:latin typeface="Curlz MT"/>
              </a:rPr>
              <a:t>Where's Rachel</a:t>
            </a:r>
            <a:r>
              <a:rPr b="0" lang="en-US" sz="6600" spc="-1" strike="noStrike">
                <a:solidFill>
                  <a:srgbClr val="ff0000"/>
                </a:solidFill>
                <a:latin typeface="Curlz MT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Elephant"/>
              </a:rPr>
              <a:t>Rachel grew up in Saint Joseph Michigan</a:t>
            </a:r>
            <a:r>
              <a:rPr b="0" lang="en-US" sz="4000" spc="-1" strike="noStrike">
                <a:solidFill>
                  <a:srgbClr val="ffcc00"/>
                </a:solidFill>
                <a:latin typeface="Elephant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Elephant"/>
              </a:rPr>
              <a:t>and</a:t>
            </a:r>
            <a:r>
              <a:rPr b="0" lang="en-US" sz="4000" spc="-1" strike="noStrike">
                <a:solidFill>
                  <a:srgbClr val="ffcc00"/>
                </a:solidFill>
                <a:latin typeface="Elephant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Elephant"/>
              </a:rPr>
              <a:t>now lives in Northern Virgini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4267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Gigi"/>
              </a:rPr>
              <a:t>What She Doe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French Script MT"/>
              </a:rPr>
              <a:t>Her hobbies include growing purple flowers</a:t>
            </a:r>
            <a:r>
              <a:rPr b="0" lang="en-US" sz="6000" spc="-1" strike="noStrike">
                <a:solidFill>
                  <a:srgbClr val="fd1b71"/>
                </a:solidFill>
                <a:latin typeface="French Script MT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French Script MT"/>
              </a:rPr>
              <a:t>and</a:t>
            </a:r>
            <a:r>
              <a:rPr b="0" lang="en-US" sz="6000" spc="-1" strike="noStrike">
                <a:solidFill>
                  <a:srgbClr val="fd1b71"/>
                </a:solidFill>
                <a:latin typeface="French Script MT"/>
              </a:rPr>
              <a:t> doing totally useless crafts</a:t>
            </a:r>
            <a:r>
              <a:rPr b="0" lang="en-US" sz="6000" spc="-1" strike="noStrike">
                <a:solidFill>
                  <a:srgbClr val="ff0066"/>
                </a:solidFill>
                <a:latin typeface="French Script MT"/>
              </a:rPr>
              <a:t>.</a:t>
            </a:r>
            <a:r>
              <a:rPr b="0" lang="en-US" sz="6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onotype Corsiva"/>
              </a:rPr>
              <a:t>HER SKI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KodchiangUPC"/>
              </a:rPr>
              <a:t>Three skills Rachel does well…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246960" indent="-24696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Kodchiang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KodchiangUPC"/>
              </a:rPr>
              <a:t>She puts pictures in the readers hea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246960" indent="-24696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Kodchiang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de1a"/>
                </a:solidFill>
                <a:latin typeface="KodchiangUPC"/>
              </a:rPr>
              <a:t>She makes you want to turn the pag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246960" indent="-24696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Kodchiang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fef11"/>
                </a:solidFill>
                <a:latin typeface="KodchiangUPC"/>
              </a:rPr>
              <a:t>She makes you fill like you’re in the stor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rench Script MT"/>
              </a:rPr>
              <a:t>What Language?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These are the language’s the books are i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de27"/>
                </a:solidFill>
                <a:latin typeface="Arial Black"/>
              </a:rPr>
              <a:t>Polish, Lithuanian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fef11"/>
                </a:solidFill>
                <a:latin typeface="Arial Black"/>
              </a:rPr>
              <a:t>Brazil, Catalan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d9407"/>
                </a:solidFill>
                <a:latin typeface="Arial Black"/>
              </a:rPr>
              <a:t>Chinese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d9407"/>
                </a:solidFill>
                <a:latin typeface="Arial Black"/>
              </a:rPr>
              <a:t>Czech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Dutch, Spanish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French, German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Greek, Hebrew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Italian, Portuguese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Romanian,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United Kingdom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r Boo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These are books she has written thus far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briola"/>
              </a:rPr>
              <a:t>BIBLIOGRAPHY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http://www.dorkdiaries.com/my-diaries/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9718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ttp://www.whoislog.info/profile/rachel-renee-russell.htm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3:20:44Z</dcterms:created>
  <dc:creator>TPE-Tab01</dc:creator>
  <dc:description/>
  <dc:language>en-US</dc:language>
  <cp:lastModifiedBy>TPE-Tab01</cp:lastModifiedBy>
  <dcterms:modified xsi:type="dcterms:W3CDTF">2013-01-28T13:36:29Z</dcterms:modified>
  <cp:revision>13</cp:revision>
  <dc:subject/>
  <dc:title>Rachel Renee Russell</dc:title>
</cp:coreProperties>
</file>